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7A58-A091-4A1B-ABBC-BD087FC6E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ethod is the Box Method. This method works for every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ethod is the Box Method. This method works for every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 - 19x –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 - 19x –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 – 34p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 – 34p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14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14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8ab – 6ba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2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2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14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14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8ab – 6ba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2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2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(x2 - 5x + 4) - 5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+ 8x - 5x2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- 5x2 + 8x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(x2 - 5x + 4) - 5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+ 8x - 5x2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- 5x2 + 8x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ou cannot use FOIL because they are not BOTH binomials.  You must use the distributive property or box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ou cannot use FOIL because they are not BOTH binomials.  You must use the distributive property or box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bin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–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bin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–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2p + 1)(p2 – 3p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p3 + 2p3 + p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2p + 1)(p2 – 3p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p3 + 2p3 + p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distributive property, multiply 2x(5x + 8) + 3(5x + 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16x + 15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31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FOIL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distributive property, multiply 2x(5x + 8) + 3(5x + 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16x + 15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31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FOIL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method is ONLY used when you multiply 2 binomials. It is an acronym and tells you which terms to multip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method is ONLY used when you multiply 2 binomials. It is an acronym and tells you which terms to multip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tells you to multiply the FIR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tells you to multiply the FIR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tells you to multiply the OUT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tells you to multiply the OUT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ells you to multiply the INN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ells you to multiply the INN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tells you to multiply the LA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10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tells you to multiply the LA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10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ADA-84D9-498A-9B70-505E0221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9D6-3706-4183-B8CD-5284CAA5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2006-4434-4C4A-A476-7B002AB2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EA9-5FC2-49DF-B278-C4DF2244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018A-DE3D-400B-8D1F-1DACE2AD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198-E4FE-49F7-97E2-7668286D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3DFC-9EFA-439E-8188-24C4FBD3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48E-2BDF-4418-B840-A7EEE912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9F8F-8AB4-4AAD-A926-6627AF20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206C-7E17-4A9F-B458-BFEACDF2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730-94D0-44EB-BBBE-0F8E9FD7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E8AF-51BA-4ECB-AD5D-E81D4AC3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997C-52F8-4776-87F3-CD54BE05B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839880"/>
            <a:ext cx="7848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002760"/>
            <a:ext cx="86868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87560" y="632448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30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hird method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ox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his method works for every problem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952880" y="1905120"/>
          <a:ext cx="3810240" cy="411480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15x</a:t>
            </a:r>
            <a:r>
              <a:rPr b="1" lang="en-US" sz="36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 - 19x –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94" name="Text Box 24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34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96" name="Oval 29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Text Box 25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5"/>
          <p:cNvSpPr/>
          <p:nvPr/>
        </p:nvSpPr>
        <p:spPr>
          <a:xfrm>
            <a:off x="63000" y="6126120"/>
            <a:ext cx="90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rc 39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rc 40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rc 41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rc 43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9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5"/>
          <p:cNvSpPr/>
          <p:nvPr/>
        </p:nvSpPr>
        <p:spPr>
          <a:xfrm>
            <a:off x="2889360" y="25909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6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7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21p</a:t>
            </a:r>
            <a:r>
              <a:rPr b="1" lang="en-US" sz="36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 – 34p +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16" name="Text Box 26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27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118" name="Oval 28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Oval 29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Text Box 31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rc 35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rc 36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rc 37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rc 38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3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c2d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2889360" y="259092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CorShape1"/>
          <p:cNvSpPr/>
          <p:nvPr/>
        </p:nvSpPr>
        <p:spPr>
          <a:xfrm rot="10800000">
            <a:off x="253800" y="1425240"/>
            <a:ext cx="25380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orShape1"/>
          <p:cNvSpPr/>
          <p:nvPr/>
        </p:nvSpPr>
        <p:spPr>
          <a:xfrm rot="10800000">
            <a:off x="223560" y="319068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8ab – 6ba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 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- 15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523880" y="2540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 or box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3429000" y="4160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3352680" y="5532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4699080" y="4160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4648320" y="5532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rc 33"/>
          <p:cNvSpPr/>
          <p:nvPr/>
        </p:nvSpPr>
        <p:spPr>
          <a:xfrm flipH="1">
            <a:off x="4037760" y="228600"/>
            <a:ext cx="160020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rc 34"/>
          <p:cNvSpPr/>
          <p:nvPr/>
        </p:nvSpPr>
        <p:spPr>
          <a:xfrm flipH="1">
            <a:off x="4038480" y="2286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rc 35"/>
          <p:cNvSpPr/>
          <p:nvPr/>
        </p:nvSpPr>
        <p:spPr>
          <a:xfrm flipH="1" flipV="1">
            <a:off x="4876200" y="838080"/>
            <a:ext cx="609480" cy="123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rc 36"/>
          <p:cNvSpPr/>
          <p:nvPr/>
        </p:nvSpPr>
        <p:spPr>
          <a:xfrm flipH="1" flipV="1">
            <a:off x="4876920" y="838080"/>
            <a:ext cx="1371600" cy="1526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0"/>
          <p:cNvSpPr/>
          <p:nvPr/>
        </p:nvSpPr>
        <p:spPr>
          <a:xfrm>
            <a:off x="6426360" y="4160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1"/>
          <p:cNvSpPr/>
          <p:nvPr/>
        </p:nvSpPr>
        <p:spPr>
          <a:xfrm>
            <a:off x="6502320" y="5532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rc 72"/>
          <p:cNvSpPr/>
          <p:nvPr/>
        </p:nvSpPr>
        <p:spPr>
          <a:xfrm flipH="1">
            <a:off x="4037760" y="144360"/>
            <a:ext cx="3124440" cy="312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rc 73"/>
          <p:cNvSpPr/>
          <p:nvPr/>
        </p:nvSpPr>
        <p:spPr>
          <a:xfrm flipH="1" flipV="1">
            <a:off x="4876920" y="7614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8"/>
          <p:cNvSpPr/>
          <p:nvPr/>
        </p:nvSpPr>
        <p:spPr>
          <a:xfrm>
            <a:off x="7772400" y="4724280"/>
            <a:ext cx="123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523880" y="1397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like term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3429000" y="3017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26"/>
          <p:cNvGrpSpPr/>
          <p:nvPr/>
        </p:nvGrpSpPr>
        <p:grpSpPr>
          <a:xfrm>
            <a:off x="3048120" y="2743200"/>
            <a:ext cx="3047400" cy="2743200"/>
            <a:chOff x="3048120" y="2743200"/>
            <a:chExt cx="3047400" cy="2743200"/>
          </a:xfrm>
        </p:grpSpPr>
        <p:sp>
          <p:nvSpPr>
            <p:cNvPr id="165" name="Oval 27"/>
            <p:cNvSpPr/>
            <p:nvPr/>
          </p:nvSpPr>
          <p:spPr>
            <a:xfrm>
              <a:off x="3048120" y="41148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28"/>
            <p:cNvSpPr/>
            <p:nvPr/>
          </p:nvSpPr>
          <p:spPr>
            <a:xfrm>
              <a:off x="4617720" y="27432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29"/>
            <p:cNvSpPr/>
            <p:nvPr/>
          </p:nvSpPr>
          <p:spPr>
            <a:xfrm rot="18931800">
              <a:off x="3324960" y="3700080"/>
              <a:ext cx="25434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30"/>
          <p:cNvSpPr/>
          <p:nvPr/>
        </p:nvSpPr>
        <p:spPr>
          <a:xfrm>
            <a:off x="3352680" y="4389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4699080" y="3017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2"/>
          <p:cNvGrpSpPr/>
          <p:nvPr/>
        </p:nvGrpSpPr>
        <p:grpSpPr>
          <a:xfrm>
            <a:off x="4572000" y="2743200"/>
            <a:ext cx="3047760" cy="2743200"/>
            <a:chOff x="4572000" y="2743200"/>
            <a:chExt cx="3047760" cy="2743200"/>
          </a:xfrm>
        </p:grpSpPr>
        <p:sp>
          <p:nvSpPr>
            <p:cNvPr id="171" name="Oval 33"/>
            <p:cNvSpPr/>
            <p:nvPr/>
          </p:nvSpPr>
          <p:spPr>
            <a:xfrm>
              <a:off x="4572000" y="41148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34"/>
            <p:cNvSpPr/>
            <p:nvPr/>
          </p:nvSpPr>
          <p:spPr>
            <a:xfrm>
              <a:off x="6141960" y="27432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35"/>
            <p:cNvSpPr/>
            <p:nvPr/>
          </p:nvSpPr>
          <p:spPr>
            <a:xfrm rot="18931800">
              <a:off x="4848840" y="3700080"/>
              <a:ext cx="2543760" cy="79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36"/>
          <p:cNvSpPr/>
          <p:nvPr/>
        </p:nvSpPr>
        <p:spPr>
          <a:xfrm>
            <a:off x="4648320" y="4389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1"/>
          <p:cNvSpPr/>
          <p:nvPr/>
        </p:nvSpPr>
        <p:spPr>
          <a:xfrm>
            <a:off x="6426360" y="3017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6502320" y="4389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5"/>
          <p:cNvSpPr/>
          <p:nvPr/>
        </p:nvSpPr>
        <p:spPr>
          <a:xfrm>
            <a:off x="2309760" y="5775480"/>
            <a:ext cx="449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– 15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p + 1)(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3p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p +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istributive propert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multiply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 +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16x + 15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10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1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</a:t>
            </a:r>
            <a:r>
              <a:rPr b="1" lang="en-US" sz="4000" spc="-1" strike="noStrike" u="sng">
                <a:solidFill>
                  <a:srgbClr val="00279f"/>
                </a:solidFill>
                <a:uFillTx/>
                <a:latin typeface="Times New Roman"/>
              </a:rPr>
              <a:t>FOI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IL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ONLY used when you multiply 2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inomial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It is an acronym and tells you which terms to multiply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R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3200400" y="1828800"/>
            <a:ext cx="1601640" cy="355680"/>
            <a:chOff x="3200400" y="1828800"/>
            <a:chExt cx="1601640" cy="355680"/>
          </a:xfrm>
        </p:grpSpPr>
        <p:sp>
          <p:nvSpPr>
            <p:cNvPr id="63" name="Arc 5"/>
            <p:cNvSpPr/>
            <p:nvPr/>
          </p:nvSpPr>
          <p:spPr>
            <a:xfrm rot="10800000">
              <a:off x="402732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rc 6"/>
            <p:cNvSpPr/>
            <p:nvPr/>
          </p:nvSpPr>
          <p:spPr>
            <a:xfrm rot="10800000">
              <a:off x="320040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U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4800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7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3276720" y="1752480"/>
            <a:ext cx="2439720" cy="355680"/>
            <a:chOff x="3276720" y="1752480"/>
            <a:chExt cx="2439720" cy="355680"/>
          </a:xfrm>
        </p:grpSpPr>
        <p:sp>
          <p:nvSpPr>
            <p:cNvPr id="69" name="Arc 5"/>
            <p:cNvSpPr/>
            <p:nvPr/>
          </p:nvSpPr>
          <p:spPr>
            <a:xfrm rot="10800000">
              <a:off x="452268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rc 6"/>
            <p:cNvSpPr/>
            <p:nvPr/>
          </p:nvSpPr>
          <p:spPr>
            <a:xfrm rot="10800000">
              <a:off x="327672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N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3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4114800" y="1752480"/>
            <a:ext cx="687240" cy="355680"/>
            <a:chOff x="4114800" y="1752480"/>
            <a:chExt cx="687240" cy="355680"/>
          </a:xfrm>
        </p:grpSpPr>
        <p:sp>
          <p:nvSpPr>
            <p:cNvPr id="75" name="Arc 5"/>
            <p:cNvSpPr/>
            <p:nvPr/>
          </p:nvSpPr>
          <p:spPr>
            <a:xfrm rot="10800000">
              <a:off x="448452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rc 6"/>
            <p:cNvSpPr/>
            <p:nvPr/>
          </p:nvSpPr>
          <p:spPr>
            <a:xfrm rot="10800000">
              <a:off x="411480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A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960" y="3580920"/>
            <a:ext cx="88390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+ 3y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10y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4114800" y="1143000"/>
            <a:ext cx="1525680" cy="355680"/>
            <a:chOff x="4114800" y="1143000"/>
            <a:chExt cx="1525680" cy="355680"/>
          </a:xfrm>
        </p:grpSpPr>
        <p:sp>
          <p:nvSpPr>
            <p:cNvPr id="81" name="Arc 5"/>
            <p:cNvSpPr/>
            <p:nvPr/>
          </p:nvSpPr>
          <p:spPr>
            <a:xfrm rot="10800000">
              <a:off x="490392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Arc 6"/>
            <p:cNvSpPr/>
            <p:nvPr/>
          </p:nvSpPr>
          <p:spPr>
            <a:xfrm rot="10800000">
              <a:off x="411480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7920" y="182844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n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01:21:20Z</dcterms:created>
  <dc:creator>Skip Tyler</dc:creator>
  <dc:description/>
  <dc:language>en-US</dc:language>
  <cp:lastModifiedBy>LEGION</cp:lastModifiedBy>
  <dcterms:modified xsi:type="dcterms:W3CDTF">2017-07-06T06:36:06Z</dcterms:modified>
  <cp:revision>34</cp:revision>
  <dc:subject/>
  <dc:title>Multiply Polynomials</dc:title>
</cp:coreProperties>
</file>